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F769A-D69E-46AE-B11B-095B79DA1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11853-95D4-4815-A397-8D61B5FE0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278EA-29EB-4E63-8E76-F6EF4D3D4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85AF0-040D-40C1-AC08-6C77ACE57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2BFBB-DB60-4B86-82AF-4972050F5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C3F49-B070-408E-AAEF-E9BA5C947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78109-9F60-4D86-880B-B787F123E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14F7C-25E3-41F9-B0C2-BED4B1C5D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E9D6B-DEF3-4686-9E6F-9CF534268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E1D5F-C173-4814-ABC6-76F1E4627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C58A0-7795-4977-AAB5-10C93AF4D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F475D-5284-42CF-AB9D-97A928695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5287F-27CC-4BD8-B4FA-F3A277E2A2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99280" y="730080"/>
            <a:ext cx="3484800" cy="35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CHLORAMIN  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Xn - zdraví škodliv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Xi - dráždiv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R 22-31-36/37/3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 7-26-37/39-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1T15:12:17Z</dcterms:created>
  <dc:creator>Graclíková</dc:creator>
  <dc:description/>
  <dc:language>en-US</dc:language>
  <cp:lastModifiedBy>Dana Graclíková</cp:lastModifiedBy>
  <dcterms:modified xsi:type="dcterms:W3CDTF">2001-01-22T04:03:11Z</dcterms:modified>
  <cp:revision>3</cp:revision>
  <dc:subject/>
  <dc:title>Bez nadpisu</dc:title>
</cp:coreProperties>
</file>