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F97-091E-4CC0-B60C-467BA7E0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B6F-60AF-41C1-9F8E-FC8CE18C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C0A-6CB7-4DC1-A2F2-7FE70334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12F-2F4A-47D4-963C-1C12A1FE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78B-EAD6-4928-95D2-550CD187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92A-4044-451C-B65C-A56AFAE0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8BE-CAE8-4724-994A-154B1EB0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B55-D041-43D4-AE31-FE5C3B2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0A5-8E4A-463C-AA91-A1034829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43F-8823-4878-BB66-885BF95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57A-D0A0-4988-B1D5-BC33443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717-C6DD-4E85-BD9C-04E74F6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AEF-2A95-4F54-B8D5-24C5D5664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9280" y="730080"/>
            <a:ext cx="3484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CHLORAMIN 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n - zdraví škodl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i - drážd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 22-31-36/37/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7-26-37/39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5:12:17Z</dcterms:created>
  <dc:creator>Graclíková</dc:creator>
  <dc:description/>
  <dc:language>en-US</dc:language>
  <cp:lastModifiedBy>Dana Graclíková</cp:lastModifiedBy>
  <dcterms:modified xsi:type="dcterms:W3CDTF">2001-01-22T04:03:11Z</dcterms:modified>
  <cp:revision>3</cp:revision>
  <dc:subject/>
  <dc:title>Bez nadpisu</dc:title>
</cp:coreProperties>
</file>